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D9D5F-3CCA-4206-A721-FE648898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E8FF2-C512-4E84-B6ED-9B90767E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BC7E9-1539-49B1-9D2E-ED548989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26728-AFB0-4089-AFD6-85BBFC61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DBBF6-0A94-4D98-8F14-EB812F37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088AA-9642-4F6B-B079-4F7AD6BF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CAD85-1497-42C5-8469-A3C62F54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3AC75-851B-43B2-891C-A824730B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B1428-E6EC-47CA-84E7-51ABE56C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AD69C-DCCE-44CA-8F78-6978A8F1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C1DDA-CAC6-46D7-82B0-DC23507D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9A251-5355-445F-88D9-14FA0AFC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2AA4A-926B-471A-BC13-B531C98D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41934-AF0C-49FB-BA55-1F95CA6E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987E6-F934-41E1-9246-710B5014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F6B96-3A26-488F-A70C-545CD924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4C5C8-4796-40DA-A788-A16930FF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42226-5B6E-4486-8A72-3A588F29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C0AB2-DBB0-4CD1-B0BD-EA1102B6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CBB3D-105B-4D80-A852-DF630145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20198-A34A-49D4-8248-A48687C4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27885-0997-45FE-A18A-AC73C7F7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004D9-C56F-4018-B4F1-7141E75C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C3F1F-E2AB-46D1-B9FD-C47FE8E7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D7BD6-1505-479E-960C-71B1839C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7CE16-B8A0-45B2-9FEB-F4A5D258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78C1C-8C0F-4F4B-A8AB-E505EF0F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BE00B-3010-4B03-A650-9E571881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D061B-90E6-4440-9DDE-9837EDBB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7657D-F7F3-4E1E-A36C-CD8E9614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2B0-DEC7-4ED4-B88C-25688B40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6FF8E-AA64-4661-B340-C75E4C09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50056-2F9B-4FBC-BD08-F3CE5DF0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CA5BB-7FA8-4DF8-BD36-990330D5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F7BA5-6EB9-450D-A5A6-922FD543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32A62-5A76-4771-B92C-8E6C2DEF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F1C03-7423-4CD3-8219-D4428794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235CA-4D6F-494C-AA35-19EA7460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E9FA4-AB53-47D6-996D-A03A2737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8F196-B973-4328-9C0C-077D7B11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8F45C-B926-4DDC-95EE-9E2C3023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93F-EFAC-48E9-AB27-0F3F3D46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67F84-E185-40BB-9CEE-47B1735D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DFDE0-3F10-4886-82FE-1779E43A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59EAB-9273-403B-A14B-A0F18EFD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8AFAD-ADE8-42A8-A808-9E7B036E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C5460-9E8C-482C-81C0-EE15929E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E25F-1532-475A-BE20-68FB304B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13B-EC5C-4A42-90C7-CDF37D7C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7FD-F36F-4C0A-840E-FBF12147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A36D-BE40-4963-ADA4-D6015004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960-D621-43FA-B595-CC5CEC17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E29-79F5-4605-B10B-107C2410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8F8-344B-434D-B6A0-79DD26D1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8DCB-0516-43D2-8BF1-A3E339AA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AFF4-DB02-44B9-BCC7-2C6546B7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8D8-BBAD-41F6-BB28-28F8A7FF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BF3B-201D-4C3D-967B-5265F753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C910-CE83-4043-9F96-A082177A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46A3-A3F0-4D1B-957C-A1DFF4E5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AA7D-C5CD-49BF-8664-6E3B8AA9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DF6F-8B91-4636-9D3A-9CFB04AD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B782-EBB4-4EAB-ADBD-03A7751D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922A-907B-4073-8682-C167CD1B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A276-2EA9-4094-8F97-69C418BD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979E-476D-4C42-9E12-4F94F145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9990-3E7F-4066-BBE2-806310FA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2FED-E7AD-40AE-BA92-5FD00C1E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3E74-24A5-444F-9439-0ACCEC69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04ECF-0192-4A35-BDAA-70C885EB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AAB50-F442-4087-BE6F-9A7832B7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737A7-5EDA-4559-BB2B-9616645D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E3EDE-E638-4A04-8D59-044155AE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1E16-F148-4731-8F04-0EC9E792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F01EB-4723-4DCF-ACBE-5828E431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6BEC8-2987-4B38-8D7B-607E8AE3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99C3E-1B7D-457F-B8D3-44CF3758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C7914-6635-43AF-9C79-87EDC3C3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C1139-398B-4755-B5DB-57E8A853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0DC0D-97F5-4806-ADDE-80949692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47200-8BDE-4058-BBA4-903B539C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34149-4B06-4566-AE7C-96B55775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B3E85-8072-431C-A81A-42B82843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4807C-5CD0-425A-A724-3C7228B7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EFD8D-898C-4E7A-B5EC-76C8BD59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09401-3433-4F72-AB71-51D35322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21F41-9BC1-4F8E-86A9-365F4513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7CAA5-013F-449B-8152-38F2F01C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0EA61-9BCA-4FED-8053-98694D46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82483-521D-4EC1-9BFD-735EEE07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4C576-6446-4C83-B8D5-8DA5213B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4132E-47A8-445D-B271-7D66D4B7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1969D-7B45-4B9B-9A41-B3E2F723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9C815-794B-4E43-9028-1FF1D8EE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C04C9-F416-4FFE-ADA0-CF848CF6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5F1B0-B389-4464-8D65-B4BB5BC9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0847E-D67A-4532-A4FB-36CD57B1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2A7A9-119B-421B-894A-846D6A9F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3162A-C61C-4E24-80B6-64CC7E13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AB389-46E0-4672-963A-4F3FB901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BEE51-FDA0-47D8-9E15-F2A7FA59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B86A7-AF50-4632-976C-C3E4A3D7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8E333-B350-4696-8457-B864CF96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B7CAF-0C8F-4871-8DD4-AE68C621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43189-A6C8-49F4-BAD8-DD2ABF6F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3F364-7897-48B4-A316-ACD466D7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539B0-CBE3-4588-A340-48C91B29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E6C5F-A58A-44EE-94BF-646556E5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35025-D84D-4EF5-B036-B962CA19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5376D-C5C6-4B90-BD53-C5740ADC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922D5-6E54-4989-BEA9-11BFDD36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AA9B7-DFC0-45E0-8C32-E288AD1A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34ADC-845A-460D-80AC-8E892EF2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ACE89-470B-4C8E-B428-303871FF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3F40D-E56D-4C61-BE98-9B028410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4D73F-B04C-4B57-9F1E-B8CDEBEB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A01C6-73AE-48B5-81F9-8570DD53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EB88F-1AE9-4F00-8FAF-58E8F2DA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54016-468B-4F4F-8B87-B00BDA81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90835-5D8C-4C7E-9175-B64FF507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E06F1-A18C-4F30-8A03-43308F26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29F95-CB11-4A7D-B366-6827F1E8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DFE7B-48C8-471B-B4D2-2A2CB758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EBE3F-F352-4EAE-9D3C-998540D1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F1FA0-1CA0-4B2A-B27B-3BB530B0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D6062-9BB7-4BA6-8603-B03DEF10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79EB8-0247-4601-9C5E-52C5B807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878F3-A885-4BD1-BDAF-7304B766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B5BFE-9572-44AB-9677-15BD44BC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DFF9B-1B4E-4AA8-A541-A88F75B3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32C8B-2828-484B-9F50-47557E8D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6B437-B6D8-45F6-8ABD-F124FB93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9C58-152F-4837-9115-3D3F65ECAFC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C8AA-AE75-44BF-AB4B-8B0E48BEA9B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6EC6-644C-46E0-990D-9BE3D0B8D0B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6240-7E57-42D6-AC54-7F0DC8AFC02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E994-CEC3-4A7A-ABBA-5D6B7407C40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1B10-E618-4B7C-976B-9CD1CCD0B1E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9333-4D88-4305-8D33-700A596D487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B369-3E6F-47C9-9DB8-75475D007E5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3025-ADAD-4F1A-8B20-D58DED6EBB0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147D-E100-46CA-BE80-0E1FF3E793B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DC58-66E6-4C1A-85F4-8BD55DAE14C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-108000" y="189000"/>
            <a:ext cx="92520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0:38Z</dcterms:modified>
  <cp:revision>374</cp:revision>
  <dc:subject/>
  <dc:title>Diapositiva 1</dc:title>
</cp:coreProperties>
</file>