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141F0-8578-477C-AE67-AE2673A8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8D724-AF96-4090-992A-C595F9C8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71CCD-30AB-4BC5-83E9-CE429B62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B8582-24B5-43A9-9DBA-59D97A03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1D73D-D8AD-4E75-8F2D-89BA23F2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F318C-B45F-4B65-AC1A-8430928E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CC40C-537D-4FF3-AE56-F4C144E4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5C778-BD5B-49F7-BA74-F86297B4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C34E3-3DB7-4896-BECB-1EA34A6C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5CE5F-0116-4F8D-87DF-F74F3D0A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D065F-5298-4240-A38C-F7964B83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E2667-B7AA-4F1C-BD91-C09B1ED0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32268-20E0-429C-9F54-CCB16395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84B58-90FC-44BE-9E6E-A75F421A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3F769-ECE6-4A35-BB34-CC8A8112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ACFA6-6130-4000-BFA1-BBB76D8F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FB8B8-3B1C-40F5-B2A0-DBA1F590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8C576-4792-4518-8A71-E4217B1B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BBE93-79F4-41A0-82C3-AE8D74EA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E3438-3077-435E-94F4-CE124160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40494-6A1C-45F2-A341-4B69E6C1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BA92B-88C5-4E4A-85D6-2ECF7106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50F26-A402-4B4F-BEAD-2993C7C8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23BD7-FB0C-4064-B65E-E61BF763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19D98-E65B-4D95-A771-2C231DFE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DF155-9E9F-40FD-A1D4-22ECA2FA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40E57-1DD3-41F0-8AAA-8923C189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B5F8D-AB4B-4938-A494-5A7C0BB0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6749C-650F-41BF-8F2B-335A88BE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0769C-B712-45AB-A6C6-DDE98F22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FFA6-9201-4845-9A2C-60DFF2BF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49758-FB26-4CE3-A7C7-7595BD85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43409-C7BA-42B8-B567-B4DFB5A9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91FFB-DE75-4A67-AB51-3C2BCF1E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8DD02-6177-4DCB-B47A-D0BC18A3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42784-4CAE-459B-AF7F-85E0EADD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124FE-C7A9-46AB-AA62-A2A00728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D3D71-16F5-4EC0-A0FF-A4B2C6D2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CFDED-8E44-4100-9653-8C68C16F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34180-70FB-4C20-B26B-BE6653C6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A115E-5310-4797-86FF-4176317F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999-F06D-4CD3-9093-99B38064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D2258-40FA-4769-9988-B32AAF95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D36FC-D3CE-46F1-ADA0-1BCFDA74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3AC94-F4C5-4071-ABED-E3CDA4F8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30EF4-F964-4DE8-8ECD-B69F20C7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B8C40-3358-4F30-8D7C-3427021F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CCF-5C52-4F57-AB28-027A03DD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8A9-3EFD-4A01-86D8-9BCF15A8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4F4-3F58-4C79-9F72-F5A5B5D0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76B-B6E6-4B91-9A98-0A659F66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502-382E-4BB2-8166-72E2C374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03D4-DA1F-4615-AA24-D9F4CD3F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FBE-9018-4426-9174-2CA26B61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8F2-093A-4C07-873D-B4E18153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CE8-747F-4C9E-A44B-8F25D59F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554-71BC-4941-86A4-8A1047EE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08A0-51EA-4865-AB54-41BBE3DA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AA7A-F820-4432-B6E2-DFB06A3D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9E62-D3D2-493A-A2EF-9A028622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8539-C100-4D83-9687-478F14F4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45C4-AB17-4454-B73E-0A1E99BF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B0A9-C2F4-4F5F-AB29-D8F29472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F06B-4892-4A2A-BAA2-6EEF924A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128B-78EC-41A9-B169-83AB0D33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8836-7582-41E0-B45B-EF06EDB1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27AA-DED9-4EAF-9D15-5E6D57C5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58DA-F3A2-4AB5-8166-F6D03C1C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BF8F-8006-4E56-AAE3-17BAD901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9268B-1F23-42BF-BD14-D8E7B9AB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B2145-08B0-48DD-8C5A-7731D3CC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A4512-456A-4FFA-98DD-500910F9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78395-8817-4720-B592-30782517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9BD9E-7C28-4819-8D22-FD2EFF3B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46F2C-E5CA-4FB4-AF9B-3147ACAE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EC1CA-EAB6-4BA7-B50C-55A646CF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FFB4-C3C5-47CD-BD28-0A5A39DB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3B2F6-8E21-479B-AFB7-DFE6E386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4168-7EA4-4763-B31E-B75D7089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DB2A7-4F39-41CC-ADFA-3A7A5931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FA933-5291-4DDB-A9AF-51EF570D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E4341-732B-46E3-8F5B-4A89D323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859CC-7765-47B6-99A5-51DDD533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6903C-5CF5-45BB-A732-F8E3B61F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6FBA5-3154-4DCC-B562-65ECEB11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02BE0-3930-4FDA-91C0-A10A8522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6BE3A-9F3D-4174-9EF6-DDC62F79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82300-355E-4B56-A944-FB1EECD5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156A5-06C8-415A-867E-1AEA0E22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8697A-C02C-4BD7-8F7B-B97CE497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E13E6-8728-4474-A21D-4D97CD9A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888D-BCD9-414A-A5F4-EB356533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50206-6E0D-4D7C-8384-092FA0D2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2CD37-2727-4AFE-B847-62B2D79A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2DDCE-DDB4-4AE2-B3BE-5185C80E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F561C-2CB0-4AC6-B234-D768BCB0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E2313-EB3E-4C49-8A49-96D6B066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00AD5-07C4-4761-8517-A99B0C63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7AF90-AAC0-44E9-9E96-EEE80775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B1EB0-33CF-437D-8503-880A2C25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14BEF-837E-450D-B424-64272649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190A-2E54-458B-ADA0-8E1AE5A6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5C86C-4E24-490E-AEAA-5F0D3FFF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49A8D-7A51-469A-9746-F9696B4E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809DF-D5BE-467F-A56B-1667551A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EEC33-9BA4-4F9E-B7D6-B766BAFC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B2DA9-A82B-4B25-99A0-6456D527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46B3E-C05E-4FF8-A5F2-72193ED2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D022F-7757-4859-9B71-69170A74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4DBC7-A203-4BA3-93FA-B291E118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304B3-843E-468F-A040-C98EC517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8D6D6-0732-4BFA-AA9C-E810EB92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B0650-CFAE-47C6-BDFC-8823AD75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C9CA1-32B7-435C-ADD9-ADC5C7C4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F77AA-9E45-41C4-9EFD-CFF740E5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5530C-B8CE-4B3D-95A5-24C1CDC4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13909-71C5-4F78-B0CA-9D56BEBB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E200C-A87C-4785-AF47-2E838505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57213-74B7-4C31-B591-4A781642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6AA19-A347-4B0A-B5C8-62B1B90A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17B87-730E-405B-B38A-409B6256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7D2E7-6336-4978-A6DB-942432D2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B8B5C-64E2-4193-A3FC-0D677825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0E324-B70D-48F4-A4D3-B89CCB67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10EC9-E503-4CF6-91D2-411F6177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62673-291D-46C0-8AA6-9F7F50DB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473D8-921A-4251-86DA-03FF2325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83BF1-BC9C-4625-B34C-2B8AB7D7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A9FCC-DE76-4B9D-975F-F0DB086F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6282C-482B-46CB-8F18-1AB0DBCE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F1FDE-AB8A-4D62-9DA7-44B8201A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862D1-D98F-4B15-A985-24EAB629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D112-C00D-43CD-A90D-F3ED4FF001D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CBCE-4BA9-4F3E-9715-45C40C4A49A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F6F2-7E0A-4F22-B190-EF2A7FA5BA2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872B-8FDD-4246-BAA0-D7C93688744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4B2B-84C7-4AFD-A000-ED26602DF15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9F23-959B-4569-9907-6BC01C04AF4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EC60-886D-4B47-88F8-D7A01D5A621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AE4C-A944-4E1C-B101-B434FE341C0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5C5A-1C2D-49C7-B361-D784E0C0284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A4DE-C561-46B2-82A7-71FC62B879E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01B6-D31A-40BD-9C35-38BBA5E5F83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585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7933c"/>
                </a:solidFill>
                <a:latin typeface="Eras Demi ITC"/>
              </a:rPr>
              <a:t>I</a:t>
            </a: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DENTI</a:t>
            </a:r>
            <a:r>
              <a:rPr b="1" lang="es-ES_tradnl" sz="2800" spc="-1" strike="noStrike">
                <a:solidFill>
                  <a:srgbClr val="1f497d"/>
                </a:solidFill>
                <a:latin typeface="Chiller"/>
              </a:rPr>
              <a:t>DAD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 Narrow"/>
              </a:rPr>
              <a:t>SOCIA</a:t>
            </a:r>
            <a:r>
              <a:rPr b="1" lang="es-ES_tradnl" sz="2800" spc="-1" strike="noStrike">
                <a:solidFill>
                  <a:srgbClr val="604a7b"/>
                </a:solidFill>
                <a:latin typeface="comi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Marcador de contenido 3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997840" cy="4786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6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12" descr="http://www.campamento.lebal.es/wp-content/uploads/2011/06/Metodologia.jpg"/>
          <p:cNvPicPr/>
          <p:nvPr/>
        </p:nvPicPr>
        <p:blipFill>
          <a:blip r:embed="rId2"/>
          <a:stretch/>
        </p:blipFill>
        <p:spPr>
          <a:xfrm>
            <a:off x="324000" y="1989000"/>
            <a:ext cx="1666800" cy="905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http://200.116.126.171/cacvirtual/images/metodologias.png"/>
          <p:cNvPicPr/>
          <p:nvPr/>
        </p:nvPicPr>
        <p:blipFill>
          <a:blip r:embed="rId3"/>
          <a:stretch/>
        </p:blipFill>
        <p:spPr>
          <a:xfrm>
            <a:off x="36360" y="4840200"/>
            <a:ext cx="2341800" cy="1255680"/>
          </a:xfrm>
          <a:prstGeom prst="rect">
            <a:avLst/>
          </a:prstGeom>
          <a:ln w="0">
            <a:noFill/>
          </a:ln>
        </p:spPr>
      </p:pic>
      <p:pic>
        <p:nvPicPr>
          <p:cNvPr id="491" name="Imagen 4" descr=""/>
          <p:cNvPicPr/>
          <p:nvPr/>
        </p:nvPicPr>
        <p:blipFill>
          <a:blip r:embed="rId4"/>
          <a:stretch/>
        </p:blipFill>
        <p:spPr>
          <a:xfrm>
            <a:off x="623880" y="32655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92" name="Rectángulo 1"/>
          <p:cNvSpPr/>
          <p:nvPr/>
        </p:nvSpPr>
        <p:spPr>
          <a:xfrm>
            <a:off x="2771640" y="6021360"/>
            <a:ext cx="62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Calibri"/>
              </a:rPr>
              <a:t>http://es.slideshare.net/faropaideia/psicologa-social-autoconcepto-e-ident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28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Calibri"/>
              </a:rPr>
              <a:t>IDENT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1:48Z</dcterms:modified>
  <cp:revision>374</cp:revision>
  <dc:subject/>
  <dc:title>Diapositiva 1</dc:title>
</cp:coreProperties>
</file>