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48C44-202E-45A6-B167-A5717B40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4B0E9-66D1-4546-A57D-085CACDF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71ADC-CDD3-489E-BDEA-26117BE1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AF0BF-BA03-4A16-BBC2-D51D8591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753F7-03C5-4AF4-AD4A-5BADACAF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04702-9AC7-4412-9AF3-122C483B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6F366-1603-4838-AE29-73A9AA9D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8D087-9970-4AC0-B765-6E4F5414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B1294-4147-4F97-A362-7788029A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5431A-0E47-4761-9928-3399BDFD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F5E0E-CC53-4D91-9805-06A621F8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11219-0A15-4045-B70B-B45D6CAC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4150B-C1C1-4902-BEB1-D4DEB9C6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012E3-3F46-4855-AE60-31287D67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1AC54-8013-4694-A88F-B794A263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A527C-08F1-448E-BDF7-0A5456A2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B295E-72E2-4986-82AA-1005D4FC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19DBA-56C9-439F-8461-7FC92D70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46F35-91E0-4059-B1A5-02430356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53663-EF57-4913-8490-040B748F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644C0-7823-44F5-8E41-1D8251A0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4127F-806C-4BA8-A99A-6C3AC3A5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4BF23-C566-4AF2-9C0F-73F3C9D2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E01BC-4689-44F9-82AC-3B1941C9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0A9C1-35F0-49F7-9A29-C094EEDF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01CD4-2B9C-4883-B558-1AA6DDC4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F4338-1E7F-4A8D-8A74-09495C29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FE66B-D4E0-416E-8133-ACB6A2AF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BA412-B6E9-4A49-87BE-03501316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C8D56-90CE-4613-936F-74E9AEDA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B84-6B10-4AD8-AEA6-16BD160C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7B2FE-5120-4B16-977A-1F0FC420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2A82E-6FCE-4BC1-B3CF-CEA7DD17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1E2BF-08E7-4008-B722-C5CA6426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AA659-4147-441E-A332-DA689AE3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B0BDB-6DA8-4248-B4C1-1FB97ECD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B5FBC-A8B4-4756-B510-F042E97C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5FD60-6F4B-4BDF-A325-37140A9D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BAB58-9857-48A7-901C-02BDE409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B8FAD-6FC8-4020-87DE-9531AC41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93E18-D201-4298-BFF5-6742523A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5A95-ECF6-4D4B-B808-E13D6D72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5B09B-69E2-46F3-A64F-3B3EF154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0C1B0-37B7-49EB-956E-83D6B3C0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A9853-F77B-4B55-A92A-BFC85D53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F87D5-20FC-4414-A440-D99C7FC5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2C044-D3A4-4226-B939-62D21A52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D74A-2381-41E4-89BE-AC72694E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A73-685B-4325-9F0D-762FAFE9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0BF0-3D59-456C-BD5E-C8BE469D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86A8-37D1-496A-AD49-6D332A9C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680-85D9-476E-9515-24DC77A3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759D-B58E-4710-9D05-2DDA6636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C4AC-28AD-45C2-9814-EA2DCFBD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2A6-DABD-4255-B49A-D419AB9D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B60-064B-42B2-876C-214449D6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845-FF91-4D3C-8A20-6897FBC5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F152-054A-4542-B85C-385B5989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6DCE-24AD-4EF6-9E16-547A2E56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81DF-3E1C-4EF1-8E69-331797E8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659F-4501-4DA5-8686-CB36F9A1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FA3C-6DA1-498A-9CFB-CD8F1E6E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E416-10B8-4A3E-9C51-9EA7A927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1053-53CA-4D5D-9D58-041DB078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526F-FE31-4F7E-8E16-D2DD83CD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F8AD-6E36-46C1-8569-7386A3BF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F672-88C8-4E60-AD70-B9F03C89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D763-5F74-4C96-85F4-36D8E0AB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E320-FD69-462E-939E-3C6DDF7B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A5FFA-EA0B-4201-9CCD-ECAA1551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1F57F-A2C7-4173-BB1B-A6AE402C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6DA7C-6A4C-4178-B8BD-B0CC7401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8A633-84F8-4A2A-B1E1-39B02B59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E405F-1C88-4A87-9188-393133AD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EA7F0-0B38-4863-BDB1-FB1F4DC5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31224-1FF6-46A1-91C4-D1C46631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EFA92-AD96-45B3-AE8A-F27BAFD8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BF872-108F-487F-92F0-F0BCB3DD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439CB-8095-41B2-9D6D-7B6AC9E2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FD3B-526D-4047-BF58-316FD1F3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9AFCA-47AC-4446-8D7C-8E50066E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18526-EEE1-4495-9D6C-AF12FC9F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B398E-63E1-40F3-BC42-66667F63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EC5FF-3C8D-4F4D-B2E5-8B488671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4B0BB-82BE-4D0D-B7E8-82928B24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1B4EF-6DC6-4096-B48F-41EC197D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2BF35-6237-41A2-8A72-27362744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7AFEF-F27D-45EA-A939-E6053458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E0A42-F66C-4A02-8069-E7885BE2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B4E71-9929-458E-8C8B-1FE0D93B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090EC-D927-417B-99A5-A76504BF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D690E-18C5-44A9-B13A-7AB0C3DD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D8A8D-ADFD-4D20-939D-422F7813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55E54-B5E5-4227-8906-19FDF7EE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55798-777E-4448-947A-6D4E2778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1E006-5EFE-4848-9EFA-44901630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8450E-C50E-409E-ACFD-2E7446B8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296A2-09AF-4475-A65B-FAD5B259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EDE6D-4CE2-48F6-B465-FE0B0EAC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E0131-82BA-4474-8EAF-42933ED9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4E54D-95DE-4317-B589-1F8360C7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6DC56-8EE7-4695-BE06-E55F4FA7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D0C18-4604-4E6D-B02F-5876F177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5B8EF-05DA-4E2A-8D52-533D9C5E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48D68-7A37-476E-8DCD-FF00C2C7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46D0E-D3BF-492D-89A8-B427B9D5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25959-F243-4C7C-8E85-511C96A7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F8DA4-DEA1-406C-8F68-1AE0CF13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E26F2-D1DB-4AB7-863C-BA602FF6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4CD19-49D5-428D-B8F8-74F2A5B2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6AEB7-9CFB-4E49-8370-C2519D62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6DA22-BCAA-4E69-93BF-C3ED3CE7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B1785-04B0-4169-A497-AF428CF6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D84D7-1F7D-491F-89D1-6AA8D871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8FD1A-E8D9-4239-8131-ED11615E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CBD7F-CF15-4023-BCFE-7005F29B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37682-5CB3-443A-9E29-1ACC9B17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88B76-3B5A-4501-AA0B-1374A2AC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4FD4B-1B2C-4224-98C3-1771A287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13776-55E3-4F1B-B0E7-3B40925E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17B7C-8D7F-4C65-98FE-371F0F79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67F69-BF34-4CAA-B349-644E5A25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DD2F6-5F45-4AAD-B1DC-474E473B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C2BF6-4746-4E65-AE13-310080BE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0DF67-3EE5-47E4-BFC7-E1A70AD6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41F4E-FA32-497F-98E2-CEDDACA7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D1A49-8A8C-481D-BB52-64C9F43F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B22AF-FF39-4624-9F85-C3CE442E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0316B-4175-4B3C-AB39-B4A37B76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789A7-311E-41AA-B536-F13DFD31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90F26-BBA9-479B-962A-E6289521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3C5E4-D064-4B18-A981-233762B7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53CF-2F3C-4022-AF27-BBAF617CE4B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0EB0-7142-495A-99C0-37DC143A0CD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4FC9-F5FA-48C4-8A20-E311E8BE393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8022-F229-42F5-AACF-74789A52F65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71FD-6240-44AB-A984-7B45BB98D64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638E-4443-4D3E-A628-1A8D217C7C3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541C-16FA-4ADB-8F90-1B0C002FDB6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81C9-1EBC-4D1B-9CE7-A61794C831F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6CC9-148E-42E9-BD84-761AB3E829B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9629-6058-4AF8-9EF5-3B12D9C3C24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C75D-BE74-45C1-AF2E-83CC8159166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-108000" y="189000"/>
            <a:ext cx="92520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0:38Z</dcterms:modified>
  <cp:revision>374</cp:revision>
  <dc:subject/>
  <dc:title>Diapositiva 1</dc:title>
</cp:coreProperties>
</file>