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7A304-C815-4B9D-8B48-4B410D6A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D8DA7-BD76-4886-A82B-A6F63DBB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A53CA-4539-46E4-98CE-D46D5417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87FDD-C20A-4B00-9B71-29A44CB3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8C7AD-0698-41E8-8ECD-4EE219EB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AF88D-A1D7-436A-AC86-B77E732E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B81E7-F1CD-4EFF-9589-9DC9334B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2FE83-C722-4BC9-BC73-1B9EED961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B06D9-C88E-4EDB-84EE-8FE658B9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48C62-5342-4ACD-BD83-1F6C4AE34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2D3926-93BD-4E64-AE41-17D430E5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4A326-88C7-4DD7-AFE4-31549209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5F6E4-7EE7-48BB-8F29-1675E07A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85960-DA19-4DF6-B23F-DB873E0B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0794D-017B-478F-B4D0-BA25F8EB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B8116-2A80-42FB-9395-7039989B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E8D6D-E274-488A-8319-C498BBC4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3F55E-7065-43DB-8731-EB61ADBD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FE36D-B2E3-4333-B494-65E1A30D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EEB18-6478-426B-9AA9-824C54F1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A5E86-3DE0-41F8-86CD-291ADF591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E2B83-61F0-48C5-A791-13815AD93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C517F-5E84-4F4B-A780-74385DF8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EADE7-59C6-4336-A110-09AD939F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437BC-C4E5-41CF-9CC6-AA1D27CD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71F94-9CED-40DE-9C14-BB8BF87F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6AE532-5664-447B-A6FA-5E9914D3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03D15-D6D5-47E6-B935-20CC410F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DA19D-8296-496F-B6B8-B15A3CC8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629D0-8ACD-49BF-B42B-8C441027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FF42-94EB-4272-BA1C-667AEDD8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5744A-ABB7-4BA1-B7C5-C13E9395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D13E3-40FD-46AF-9A7B-5D3BCDD47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FC0FE6-B185-476A-8744-F6E73E6E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3FC6F-E497-4C86-AB61-D374B25DA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D9B40-57C0-4FFB-8C14-EC4364A7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8A094-FC74-4CD5-9D0C-D70C5330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3E5E2-D502-45F1-85C1-4208B35E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DE6B4-6E24-4654-BB11-23A47C4B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BEB62-A11D-4088-B8D2-F02FE8C5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35B0D-7B73-4614-95F8-2B5D9B1C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C27D-E056-47C3-BBD8-98CAB4DC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9DBC9-3C1F-4F82-ADA0-DFCDD254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3D868-694D-409A-8A63-06AD9938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83203-B192-44A1-90DA-0500169A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A0A40-C20D-4971-BBD8-CE114DA4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F46ED-FA84-4BCE-AED5-62393FBEC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B22A-B6CD-4FCE-831F-8F7F7CE0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C2AA-841B-4999-B676-4F242163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24F9-11A9-412B-9316-42214A85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D34C-92F2-48A9-B136-8D05FA1C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7BEE-FEC8-4D71-815F-3CC47CFA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6643-A985-4FAF-BE4D-7DDF5F16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8684-58FA-4C43-85C3-B1C96B5E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7E15-E98E-4C06-91EA-C6BB34DA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EC08-1B33-42EC-B094-9217A35D3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DDBC-0C3F-491C-AE2E-12945E70E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0979-0BAF-459D-9DBD-A1699E77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CD59-FB3F-4CC1-BC40-A124615A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1C3E-A196-4918-9444-5FF0FA64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2189-7806-43C9-8BFC-F76415FC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3727-5A3E-45DA-9F04-C5F8DFC8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51AB-903F-49A5-809B-E4FD8364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E57C-F317-4E15-8A76-581D0411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EC18-8B1D-4668-9BF4-DF038C14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04CE-80B9-45AA-A2D8-D5BDB1E7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939C-E7BE-4906-8364-494DBC34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0E2E-7E79-4821-A5BE-F4AE45EBE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C894-AF09-448C-84F3-41C000602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DDDDB-0F5F-44BF-AAB2-926D7227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88910-417D-4AE9-A6F2-691A163C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B455A-7615-4371-AB8B-6708B5B0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00468-2F74-439B-BE64-61C0660F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B9252-8EAC-416B-9225-BBEF25F1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CEE03-9B21-4A04-B82A-CA8763BF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81865-4A46-4C08-B5F7-FFFDE6BF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5CE70-D92C-4AC4-823A-7B2B3565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2A2BE-9742-41EB-928B-91961409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9FD76-6DAA-4685-A735-3E171698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48175-AE99-4A9A-859E-209F1C4AC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E730A-7B00-4931-A1D5-0E37A3905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0EA5D-89C0-4930-8666-6CE1F29F8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9D732-8B8B-4F54-B0CD-D9211962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3A2E8-B950-49ED-BA8D-A4A0C522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2112A-A886-4D8E-A21D-A4B81B6C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DA299-E7D7-4591-BE19-A79D0342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A9CD9-0066-43EA-BB82-160064BD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5FCAF-84C4-45B6-B26A-50342385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896FE-E51F-43FB-B951-EBA689D5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AE192-2801-4905-B302-4BB6D032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E6DEB-E95A-4690-9D40-4A468D67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64DBE-FE66-4A67-922D-EF3763CF3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5B319-3D75-4CB6-A48B-26580CCC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98F4C-F78C-47F2-AD39-67579995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9F2CC-BEAE-4E25-A846-B6257563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A5EC1-03BE-41F3-B16F-E00172D5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48539-3677-4042-9C07-FC2D5171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624A5-18BA-4BA8-8CAC-A49EF00F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DA57F-F50A-40A6-9577-448213DC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8DF47-E89E-4820-AD5E-82099FC4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2F490-345A-491A-B524-6AB11D30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A3BDF-8001-4CEA-BCB0-62632897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C6F25-FE49-4C12-A7CB-2EA05824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45690-1212-460D-8D08-DCAD0F1D1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22D41-B341-4F7D-88C3-1ACC4BBC6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83DF8-8057-4055-8D30-E5A6946AC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CE2CE-D36B-471E-B68E-F2CA2B0D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DB368-47B8-4073-8356-B00B0526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D281E-1009-4245-94F4-11F13EDF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3607D-615D-4BF4-B608-BB82D0E3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5C5A7-E876-4F3B-803F-221974DB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1D848-BD83-4429-A45B-6B91E7C6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FC6CB-4AE3-4E0E-B5C7-EAB461E7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8346F-687C-47E7-8A5F-6738B4C4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6BB9A-D8FE-47AA-A625-233E117C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A810E-9022-4793-8757-61E30619F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85A8E-6FC0-4391-860F-C37AB52C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197A9-8BC1-4779-A58C-3CA8067F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81FB7-2B7F-4B84-849D-015066F0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001A2-9DC6-47D0-8013-0067DA7E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F2E19-D818-4830-9F00-2189CD75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E43C7-491B-48A8-8030-1D5BC1C3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AC5E0-548D-45CA-947B-59912D06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F8814-03E0-4C9C-B9D0-08D26684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558A1-1038-4EA8-B80E-7E2202D8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C0AA4-7D4B-4963-B17C-E11BDF29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6B9ED-BE58-4B76-93F4-5BE4CDAF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D54B9-6CF4-4283-A9BF-0AACB9FD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71E0A-937B-40DF-AD34-AED9CDE8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47181-2B26-495E-A7BF-391442BD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8C84C-56DD-4463-805B-56E61659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9E48D-5CB5-49EC-B713-25A4961E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D846-D2D7-48BB-9A57-85F21511A452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CD5D-6A24-4C11-968E-38F5668736A1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D1F7-B66A-443D-B18A-0BC966FB12DB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47C0-2C6B-423B-B7D2-1B62EEBE69F4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B695-DA34-4683-9EFD-3D186E38462A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59DF-BAFC-47A6-8CD1-0480EFBD52C5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110D-A8AC-49FE-86DF-4B44E543C529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0521-5F8F-4FC0-8B8C-0BAC0B03F316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3F32-2FBA-4F65-B217-B78DDD769526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B14F-7B5D-46A5-A853-950612184963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377A-A8FC-4542-AD12-18AB42F2BE7E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Marcador de contenido 3" descr=""/>
          <p:cNvPicPr/>
          <p:nvPr/>
        </p:nvPicPr>
        <p:blipFill>
          <a:blip r:embed="rId1"/>
          <a:stretch/>
        </p:blipFill>
        <p:spPr>
          <a:xfrm>
            <a:off x="-108000" y="189000"/>
            <a:ext cx="92520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7:10:58Z</dcterms:created>
  <dc:creator>Pamela Jaramillo</dc:creator>
  <dc:description/>
  <dc:language>en-US</dc:language>
  <cp:lastModifiedBy>Miriam Perez</cp:lastModifiedBy>
  <dcterms:modified xsi:type="dcterms:W3CDTF">2016-05-13T05:10:38Z</dcterms:modified>
  <cp:revision>374</cp:revision>
  <dc:subject/>
  <dc:title>Diapositiva 1</dc:title>
</cp:coreProperties>
</file>