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8AEFD5-91F2-4465-A837-894BAC669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73ECCF-BE89-4883-8EC0-278B55F16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1A38C7-4AEB-4E5B-9862-7E1E5E128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6CA4D5-8752-422F-90BF-B6FABB53F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4D2AB9-28F0-4E37-8205-16FDC24D8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FB6EE3-4BC4-476F-8F2D-887C9AC2A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EA6D7E-AF58-47DF-9B4D-88C11E53F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D78F71-8D6D-433F-BF30-0A76EF32E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C18015-0158-4B6F-ACBD-6501C303B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0E68D4-9AF4-435F-85F5-E654128C3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A6112C-8C81-4408-8564-17AF09AB8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757C0B-C84E-4F13-B317-E84E70419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F7E303-817D-4E54-ABBE-600D42240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D89482-AA58-4F29-9CD2-DE25592D7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986109-CA04-476D-9ACF-8267AA819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C46F49-62D3-4754-9BC2-14B2A60D5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B45D0B-702B-4E2B-A454-78F22F5C0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F1200E-706D-427C-8C15-48B192C19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33A5FF-1DCF-4E92-A9DA-7F1C3509E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121685-507D-4721-B289-D438B4B84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D2EBFF-01E3-40C3-A4E8-EF6AC1C49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AD3B96-6EE1-4E5C-9B17-EF85FCAAA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080F90-6C4E-40A3-ADA3-529EE08B2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70617C-5EF3-437B-8346-257D169E4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338BA5-6B51-4622-9DC4-9F9D137E6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46EA37-2C14-44A3-A232-45964900A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503A41-832F-4B0D-B7B3-8E91CE097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D7D0E1-6378-4843-B211-BC0CA0B39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5610C2-93EC-414F-B5AD-7C75B3899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69C61B-94AF-4786-825D-1108D58D2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F868-772F-49F5-A2BA-9B24C8182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22876E-0CED-4E76-819A-6F18EE1E4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176CB5-FB29-40AC-B6AE-49B36E950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78EEFC-61B4-411E-88DE-DD0273632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666CE6-70E7-4B2D-B838-41F88D0A2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B9EA53-A1C0-4BDB-94B1-9140F2999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22F317-6ED6-4982-A988-E96E509BD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8134B1-D4CD-4060-B6F9-303CD9D06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D34CA6-8E58-4605-8BBB-9BF345AAA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0F475D-3C40-4E34-BE75-083E2A086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136589-3198-4683-B162-7AEAB8238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21AA-D52A-401F-B605-61FEC7623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C482AB-26CF-43B6-950E-C10B26016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D3D8CB-04C2-4C5A-8E96-4F055FAB2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08E4C0-3BFB-4642-85EF-5FAD1F2A5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480E8B-18F0-4DDF-B9CB-3CACFC4F0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F74B2C-B932-48A3-B219-465D162A7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5776-B760-4603-ADFF-568780BCC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5C28-00CC-4B88-A7D7-4E847A997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E84E-B32D-4A2D-9EA8-58D4C35F9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982C-0684-4D16-98D6-C9964105F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55C9-B0FC-46FA-980C-35EFF1FF1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5920-1DF7-404D-BF0E-EAC273CBC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7C24-95FD-4EB2-8CF1-52EAFCE7E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5245-BC7C-4E2B-BDAA-AD82CC219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AC87-8FC6-4A0D-A454-2F48BD7D1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ACBC-9921-481F-8464-44E72D76B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2245F-2C9C-4AE6-AC1E-BEE50EB0A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BEC81-8B80-47A6-BA1F-24AAEE31F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74674-E2A8-4CAE-9572-C019072E0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F6E31-6E73-4C8E-A112-69EEF6771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30E78-24FA-482B-B98D-950861C84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152EC-E1CC-4385-B51D-D92F6D543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D39D1-4B40-42DF-8CED-6C30F31C9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DDE2A-B83C-4C5A-9B84-B3C3C1EB8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C4623-E059-47D5-A0E5-F68206BF2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4359B-9E53-4741-8E34-73D7AE0FB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3EAA1-7F1B-40EF-88CC-20C9C53E1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2B1C8-B99E-4C88-B981-DC593049F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26F4D8-AD3C-40D5-A347-23E5DED5B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2C4914-E4FF-43E7-BED0-30E62E2E1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F3A1E3-B9D0-4D93-B796-85C59EA09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BA3E5A-116F-4722-A6C4-9B4E4FBBC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80533A-D19A-469F-B8F2-21BA5418E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F9B447-74C7-4B51-A720-29B9254DC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FEA500-0D45-4493-B184-75176D478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AFE205-97C5-4AB1-BC31-F34BDA90B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E565FA-F367-4A99-85F3-E17CAFC02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069B6E-3212-413C-BC2B-E2C43F14E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DA7CF4-067F-4B94-B975-AC92EE3F3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C73971-37F7-4CA6-89D7-E3F157B3C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406CC4-BCD8-4051-972C-8224EF761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F73191-54B2-489A-B655-38BE8F615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205FEB-DDEC-4A2F-BA9D-244C6D029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039124-83AD-44CD-84E1-5FAF62EC7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8109FC-CB36-41AF-9684-8536FC84F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ED0808-41F0-45C3-A3D3-49571E2B1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FAC922-BCB5-4E64-A172-1A97B1188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B30700-53CB-41B4-9CFB-BD7F52CC1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C60B1D-095D-4DAF-9425-6DA07E240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BE2C57-50B7-40C4-8C2C-7186C957A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713A11-9E3C-43A9-A9AF-B92C517D2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D8E48A-10E2-4FCB-845E-50F40C5FA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18316C-6BAD-4AAD-BD0C-37CFC8C71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34A581-5884-4039-AA49-9AB841026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8C2039-C519-46B4-898E-70AE117C4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AE4E3B-4A4E-439C-AB8B-646BC21EF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D377E0-C092-4137-89BD-7523001FD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FF50AB-B319-4DB3-B822-81DDFA4E0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EC26DF-5A2A-4CFD-A3D9-96F52FB42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F87CC6-CD44-44BA-8397-62DAD1EA3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E45B0D-EF83-4108-A3B7-E62A356CD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51D90B-59E4-452A-98C2-AE335CD24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AEB51A-220E-40D9-B939-05A22CECC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BA17F8-4A8D-4D51-BA62-8906E4BFE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984354-768B-4A53-B0B6-0EC43A343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E1A1B1-26E0-434B-8EE8-D7A54D4A2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61FDE0-5CE8-40E2-AE1D-43279FC5C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19B66B-C180-4CF2-A201-28965CC94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463E8A-70C7-4D70-A127-536A9079B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508D9A-2472-4C8C-B034-7C2AF8E69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277EEB-2D09-4DC8-BCAF-11F0865B6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47BC82-E503-48EE-8580-8E6F1A6BB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95BE00-9E70-42D9-A77C-79D2D01AF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759077-5947-4840-A5C9-C0305E85D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79AE29-DB26-4E62-B3A3-AA7BC9959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DBE124-945B-4DE7-974A-C29517BCE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C2773F-4566-410C-86B5-14EDFFB77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510AEA-EBC1-44C0-BF75-42992B4FF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D602BB-8E41-4553-9970-72B66AF43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7DF197-4EA0-49B5-8754-04EC4F62F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5116AA-FB87-462E-BF47-1CC308AEC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4AE203-228F-4401-A58D-9AFA6A7CC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C018E9-BD44-4F7C-ABD7-5277DD49A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734F5D-EDBD-4A3B-B8A9-8A40B2DEB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3775E9-D6DC-4F10-8CC3-54771BD6C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BFB461-379E-41DF-9A03-3F3FF93A8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6F080E-2B6D-4C74-B5C2-2847C76CD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99F836-F6DE-40BB-84A2-C7883548E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4383B5-DE88-4919-97B3-B8E33250C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4C84BA-6E8F-4C8A-9F6A-E7B27271B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7551A8-1B1C-46DD-9059-9672F2304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CE943-D941-4394-9BB1-BAB26AA5B2E8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1078B-D597-47AE-A0E9-38AEE6376E83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53E6B-51A6-489E-99C2-68A41D83C55F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A6022-DC92-4564-8C0C-F4E73E89EF9E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816D7-4499-4C27-BBB0-F3B7A0CEF19C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03F3A-B933-4B7E-9D87-D1BB357B4C8B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8E5AF-6108-4521-AF36-8442CFD94755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3EF78-0B58-42A8-912A-18111E809A72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478B8-F4F4-424E-AC1B-711A051CA804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0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9986D-C8CD-4CBC-AF3F-F96B80F1EDE4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0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ABE8E-D515-4D94-8509-AD8089C7DC00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Marcador de contenido 3" descr="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5975280"/>
          </a:xfrm>
          <a:prstGeom prst="rect">
            <a:avLst/>
          </a:prstGeom>
          <a:ln w="0">
            <a:noFill/>
          </a:ln>
        </p:spPr>
      </p:pic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79360" y="0"/>
            <a:ext cx="8585280" cy="6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77933c"/>
                </a:solidFill>
                <a:latin typeface="Eras Demi ITC"/>
              </a:rPr>
              <a:t>I</a:t>
            </a:r>
            <a:r>
              <a:rPr b="1" lang="es-ES_tradnl" sz="2800" spc="-1" strike="noStrike">
                <a:solidFill>
                  <a:srgbClr val="953735"/>
                </a:solidFill>
                <a:latin typeface="Calibri"/>
              </a:rPr>
              <a:t>DENTI</a:t>
            </a:r>
            <a:r>
              <a:rPr b="1" lang="es-ES_tradnl" sz="2800" spc="-1" strike="noStrike">
                <a:solidFill>
                  <a:srgbClr val="1f497d"/>
                </a:solidFill>
                <a:latin typeface="Chiller"/>
              </a:rPr>
              <a:t>DAD</a:t>
            </a:r>
            <a:r>
              <a:rPr b="1" lang="es-ES_tradnl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es-ES_tradnl" sz="2800" spc="-1" strike="noStrike">
                <a:solidFill>
                  <a:srgbClr val="604a7b"/>
                </a:solidFill>
                <a:latin typeface="Arial Narrow"/>
              </a:rPr>
              <a:t>SOCIA</a:t>
            </a:r>
            <a:r>
              <a:rPr b="1" lang="es-ES_tradnl" sz="2800" spc="-1" strike="noStrike">
                <a:solidFill>
                  <a:srgbClr val="604a7b"/>
                </a:solidFill>
                <a:latin typeface="comic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Marcador de contenido 3" descr=""/>
          <p:cNvPicPr/>
          <p:nvPr/>
        </p:nvPicPr>
        <p:blipFill>
          <a:blip r:embed="rId1"/>
          <a:stretch/>
        </p:blipFill>
        <p:spPr>
          <a:xfrm>
            <a:off x="158760" y="1670040"/>
            <a:ext cx="8997840" cy="4786200"/>
          </a:xfrm>
          <a:prstGeom prst="rect">
            <a:avLst/>
          </a:prstGeom>
          <a:ln w="0">
            <a:noFill/>
          </a:ln>
        </p:spPr>
      </p:pic>
      <p:sp>
        <p:nvSpPr>
          <p:cNvPr id="482" name="AutoShape 6"/>
          <p:cNvSpPr/>
          <p:nvPr/>
        </p:nvSpPr>
        <p:spPr>
          <a:xfrm>
            <a:off x="155520" y="-1287360"/>
            <a:ext cx="4048200" cy="26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AutoShape 8"/>
          <p:cNvSpPr/>
          <p:nvPr/>
        </p:nvSpPr>
        <p:spPr>
          <a:xfrm>
            <a:off x="155520" y="-1287360"/>
            <a:ext cx="4048200" cy="26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AutoShape 1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AutoShape 1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AutoShape 1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AutoShape 2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AutoShape 2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9" name="Picture 12" descr="http://www.campamento.lebal.es/wp-content/uploads/2011/06/Metodologia.jpg"/>
          <p:cNvPicPr/>
          <p:nvPr/>
        </p:nvPicPr>
        <p:blipFill>
          <a:blip r:embed="rId2"/>
          <a:stretch/>
        </p:blipFill>
        <p:spPr>
          <a:xfrm>
            <a:off x="324000" y="1989000"/>
            <a:ext cx="1666800" cy="90504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32" descr="http://200.116.126.171/cacvirtual/images/metodologias.png"/>
          <p:cNvPicPr/>
          <p:nvPr/>
        </p:nvPicPr>
        <p:blipFill>
          <a:blip r:embed="rId3"/>
          <a:stretch/>
        </p:blipFill>
        <p:spPr>
          <a:xfrm>
            <a:off x="36360" y="4840200"/>
            <a:ext cx="2341800" cy="1255680"/>
          </a:xfrm>
          <a:prstGeom prst="rect">
            <a:avLst/>
          </a:prstGeom>
          <a:ln w="0">
            <a:noFill/>
          </a:ln>
        </p:spPr>
      </p:pic>
      <p:pic>
        <p:nvPicPr>
          <p:cNvPr id="491" name="Imagen 4" descr=""/>
          <p:cNvPicPr/>
          <p:nvPr/>
        </p:nvPicPr>
        <p:blipFill>
          <a:blip r:embed="rId4"/>
          <a:stretch/>
        </p:blipFill>
        <p:spPr>
          <a:xfrm>
            <a:off x="623880" y="3265560"/>
            <a:ext cx="1068480" cy="1066680"/>
          </a:xfrm>
          <a:prstGeom prst="rect">
            <a:avLst/>
          </a:prstGeom>
          <a:ln w="0">
            <a:noFill/>
          </a:ln>
        </p:spPr>
      </p:pic>
      <p:sp>
        <p:nvSpPr>
          <p:cNvPr id="492" name="Rectángulo 1"/>
          <p:cNvSpPr/>
          <p:nvPr/>
        </p:nvSpPr>
        <p:spPr>
          <a:xfrm>
            <a:off x="2771640" y="6021360"/>
            <a:ext cx="62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900" spc="-1" strike="noStrike">
                <a:solidFill>
                  <a:srgbClr val="000000"/>
                </a:solidFill>
                <a:latin typeface="Calibri"/>
              </a:rPr>
              <a:t>http://es.slideshare.net/faropaideia/psicologa-social-autoconcepto-e-identidad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90288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76092"/>
                </a:solidFill>
                <a:latin typeface="Calibri"/>
              </a:rPr>
              <a:t>IDENTIDAD SOCI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20T17:10:58Z</dcterms:created>
  <dc:creator>Pamela Jaramillo</dc:creator>
  <dc:description/>
  <dc:language>en-US</dc:language>
  <cp:lastModifiedBy>Miriam Perez</cp:lastModifiedBy>
  <dcterms:modified xsi:type="dcterms:W3CDTF">2016-05-13T05:11:48Z</dcterms:modified>
  <cp:revision>374</cp:revision>
  <dc:subject/>
  <dc:title>Diapositiva 1</dc:title>
</cp:coreProperties>
</file>