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3F4B0-2BD1-408A-BE6D-1957F2C4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E5405-E89D-4FC5-964E-AF85C8AA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E8D0A-3BF7-47BF-B748-ECE3B3F2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B69C3-5947-440A-B84A-B5318164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2B761-3ED4-40CE-B65F-F6A5F8E8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855BE-48C4-480E-9034-DF04FB0F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A65BF-3BF6-4973-A783-E300C648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9A4E2-1529-4CDE-8EB0-6F7F533EC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D4E17-CD75-43A0-B847-180EF4E91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A98E6D-3768-4874-B393-159DA2879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27A6D2-1DEA-41F8-8D5C-5CD19538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9E62F-10CA-4E40-8045-19B10F9A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FE44FE-45ED-4E1A-A54C-44242E51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32845C-DF49-4831-9B7C-A7B6E7F7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2C034F-26A1-4A96-9B04-07F691F4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814B7B-B383-4984-A002-2C450C97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EA2E98-0F56-4C4A-AB24-4B83FABE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06AA74-FB57-477C-91C8-21FF3BCB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DE7174-7520-4D98-8185-6BABEC3F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9C8FAF-259A-49B6-AB00-EEE6CD18F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7D9EAD-121F-4CDB-A49A-173F893D2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0330EC-76A1-4406-B064-8D2E0ABDD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3FAF1-3C99-444F-B04F-D9FB09F3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595DD7-A699-419D-9D36-E090ECDE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828A64-7530-4F3D-A194-7132D7F0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9DECB6-AB30-4AA4-A16D-9FD485D6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02286E-FB06-4032-8C15-F8150DD8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84F17A-731C-43A8-9257-761A5E11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D3C08B-1AD7-4A9B-B9B2-8E67215E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F463BB-3F9A-46B5-A30E-DB8DDEC1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4347-C72F-4D78-8DDA-08D787C2E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54CD6D-E896-45BA-8C84-3D58086B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507A7F-752E-40C6-A81A-20C7CFF14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E38CD-2575-4E59-9AAA-2D673A87D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02175-2535-4CCD-9144-1EEA5D3AC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99D5E-7B7F-4EA1-A75D-2AC01F25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02C30-01B5-442F-A2EB-925FE813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CDB381-4145-4321-9301-39889051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D5BEF8-C179-4535-9EA6-699E755D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F2B14C-27BB-43C4-811A-1DB27137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EA3F5-1556-40FC-8C71-FD427229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17E7-DCC5-43E6-A29C-DEE42B16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FDA85-8063-475E-AC60-086A6CBC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F983BC-1A63-44F2-9491-7C6CB0BA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77F1A-E138-4FD1-97D7-099A70AF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C57CE7-B61C-46B7-80F7-BB230E06C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FA67B2-E2DF-4E8D-B6F9-EA41567CB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2874-9ECA-453C-8CBB-99FC9BAB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15A6-4227-49FA-8237-AF575687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C512-59C6-4F79-8ED4-05BB2EC2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A98A-D181-4E98-9112-8C18F009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0E0D-966D-4BC9-9B4B-D7C3107A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9C22-BF85-4B7C-BC46-0DFBCB75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7BD3-3FBF-4774-9339-B4ED97FC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CB24-0F7C-4356-AF06-EE39BF64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AF25-472B-482F-88A6-D402AEACB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557E-249B-4150-A69F-F3D183748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E035-2745-4CD9-902E-FA133361C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5B0C-2C8B-4478-9534-04AD3E5F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7C84-DFB2-4198-87C1-ABC2DD66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B9AF-226A-4A94-A669-379985A6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1AF9-96DA-4455-AD1C-0D0096F4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71F48-0A8A-48E3-B0E8-5AA71550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5D728-CA8A-4414-BA39-624855A9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F40D-A1C6-44C7-9D47-26965EC9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12C0-C10E-450C-941A-B9468953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B7A94-7CBB-472B-83B2-EC5211C4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0A84D-E8FC-4242-9E25-F89DEF279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9A4CA-27AA-43E9-839D-68C4E8E8B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C05DA-C553-4722-A4A0-E5A5677DA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0C8CE-F6DD-47F8-A963-07A10456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04537-385D-4E2E-8917-F295E61D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510DA-1CAE-478D-A1D5-E2C472FD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B0620-054D-49FA-B021-8AE26B83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2B6B9-145F-40F5-AF47-5179B0F0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54FAA-0179-4EBC-9A90-5ADAE56A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B40E8-5CF8-40D3-BBA5-9C641A31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9791A-46C1-4708-A0E5-D4850C2B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294F2-006C-4431-8E83-AF1A06E7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4A68C-1D82-4F02-A310-0A199A47E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BEFA6-426E-4F84-9215-656986E6A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D3B8B-4B04-41F2-8352-B709DA892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5BAE8-23BC-48D5-A2CA-986A9B2C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E90E7-5E41-41FC-86DC-48D85B02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944A4-47F9-4636-B644-5B227791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7CDA8-69B3-4A8D-A9B5-094CC90E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E7964-9B73-4FA8-AD50-0BBF4199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35257-B622-4405-882A-981A3345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39FC7-547F-4037-A4E1-E3D1A63F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C0F71-B220-42CA-9EBF-EED67957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9EE0F-00FD-4B65-AFEC-C202399B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79DF5-8AFF-41A4-AC42-905EF1A09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25A2B-3F46-476C-B0B2-59E5BC4CB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E7CA4-0A31-485B-B375-2F2B68792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90C3A-AD03-4CA1-8389-F9034353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5FE00-0E56-4947-8015-BC432845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63099-BC6E-47A8-B62F-A8206414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29F50-F7DD-4A54-BB6B-65FC1802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B519E-B750-4289-8168-866F0A99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7AE6A-C324-44BF-A4F2-D139FD85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E1E21-3D5D-4095-9DC0-66B60222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76AF2-942E-4063-95B9-35530C33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00A4A-37E6-4AA5-A06F-5E70CD93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352CC-C9D0-4E06-BC6C-E604EBBBE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E4FF2-3B40-49BF-9497-5110EBF53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DC199-C820-43D0-801F-675E9D11F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92908-C2E0-4D2F-8BD0-E81D93AE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A78A0-D7CA-493E-A40C-7B3AF8DE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939C6-AD7B-422D-BD7D-53643CDB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1C414-890C-4D6A-91E8-964C0ECF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DA4E1-E00A-45A6-A78C-21B669C4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FC563-4BB0-4B03-89BE-73FF9DD0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FE094-AEF5-444B-A393-A852F946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1B63A-9B40-48F7-9EB5-AF25B588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10D86-5779-41B3-8D51-E94EA9ED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11BAE-5ADE-4EA9-991D-E7C0CDD1B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CA241-5C99-4D07-ADD3-6C190853C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F4386-2D72-4E61-AB64-54BAD8061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DDFBE-4233-4B8F-8B00-CA1870EF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E85A7-5ABD-46B6-8D2E-62D9166C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47124-FE63-41B0-9D85-6405FC0E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18713-1BD9-4CA0-A89C-CECA1D7B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77F5E-BBBC-4576-9CE5-22AD5000E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89E25-6F72-4E31-9725-DD4EAB31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CCE45-2B1B-4338-98CE-2256FB9B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08F02-AEC4-4F50-A430-663CA3E1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47B99-4A8A-49BD-BD82-BA2F8BE3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79AF1-73EC-4CD4-B247-E590787AD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094C4-A632-408E-84D1-ED8F8366B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E525F-AB9B-4D6B-A48A-7A7DC640D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FB59A-FC71-45BD-ABAB-3576B00B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B3501-F122-4CA2-8640-F60A4B84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98EB-FC64-47AB-9818-9350E3F122B5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F698-8C58-4C0B-A34A-50A8175AAE9C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48E2-D10B-4381-854C-C3B31B5FFA40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D49E-5D43-4778-B25B-656DE82132BE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D359-C05F-492E-A388-CA5D6A999E02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65A6-1C0F-4710-9246-6E69ABE366D0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EA60-3DF6-4271-9231-5276B0A503A4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8969-5369-4980-B054-1FC14FDE1008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871A-2253-4FE5-B9F1-162A39F344ED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4793-F64A-4E4F-9C2D-1409B032D1F0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B9DD-D2C1-43BD-9A43-0B7F45621579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Marcador de contenido 3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97528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79360" y="0"/>
            <a:ext cx="858528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77933c"/>
                </a:solidFill>
                <a:latin typeface="Eras Demi ITC"/>
              </a:rPr>
              <a:t>I</a:t>
            </a:r>
            <a:r>
              <a:rPr b="1" lang="es-ES_tradnl" sz="2800" spc="-1" strike="noStrike">
                <a:solidFill>
                  <a:srgbClr val="953735"/>
                </a:solidFill>
                <a:latin typeface="Calibri"/>
              </a:rPr>
              <a:t>DENTI</a:t>
            </a:r>
            <a:r>
              <a:rPr b="1" lang="es-ES_tradnl" sz="2800" spc="-1" strike="noStrike">
                <a:solidFill>
                  <a:srgbClr val="1f497d"/>
                </a:solidFill>
                <a:latin typeface="Chiller"/>
              </a:rPr>
              <a:t>DAD</a:t>
            </a:r>
            <a:r>
              <a:rPr b="1" lang="es-ES_tradnl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s-ES_tradnl" sz="2800" spc="-1" strike="noStrike">
                <a:solidFill>
                  <a:srgbClr val="604a7b"/>
                </a:solidFill>
                <a:latin typeface="Arial Narrow"/>
              </a:rPr>
              <a:t>SOCIA</a:t>
            </a:r>
            <a:r>
              <a:rPr b="1" lang="es-ES_tradnl" sz="2800" spc="-1" strike="noStrike">
                <a:solidFill>
                  <a:srgbClr val="604a7b"/>
                </a:solidFill>
                <a:latin typeface="comic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Marcador de contenido 3" descr=""/>
          <p:cNvPicPr/>
          <p:nvPr/>
        </p:nvPicPr>
        <p:blipFill>
          <a:blip r:embed="rId1"/>
          <a:stretch/>
        </p:blipFill>
        <p:spPr>
          <a:xfrm>
            <a:off x="158760" y="1670040"/>
            <a:ext cx="8997840" cy="4786200"/>
          </a:xfrm>
          <a:prstGeom prst="rect">
            <a:avLst/>
          </a:prstGeom>
          <a:ln w="0">
            <a:noFill/>
          </a:ln>
        </p:spPr>
      </p:pic>
      <p:sp>
        <p:nvSpPr>
          <p:cNvPr id="482" name="AutoShape 6"/>
          <p:cNvSpPr/>
          <p:nvPr/>
        </p:nvSpPr>
        <p:spPr>
          <a:xfrm>
            <a:off x="155520" y="-1287360"/>
            <a:ext cx="404820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AutoShape 8"/>
          <p:cNvSpPr/>
          <p:nvPr/>
        </p:nvSpPr>
        <p:spPr>
          <a:xfrm>
            <a:off x="155520" y="-1287360"/>
            <a:ext cx="404820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AutoShape 2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AutoShape 2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9" name="Picture 12" descr="http://www.campamento.lebal.es/wp-content/uploads/2011/06/Metodologia.jpg"/>
          <p:cNvPicPr/>
          <p:nvPr/>
        </p:nvPicPr>
        <p:blipFill>
          <a:blip r:embed="rId2"/>
          <a:stretch/>
        </p:blipFill>
        <p:spPr>
          <a:xfrm>
            <a:off x="324000" y="1989000"/>
            <a:ext cx="1666800" cy="9050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32" descr="http://200.116.126.171/cacvirtual/images/metodologias.png"/>
          <p:cNvPicPr/>
          <p:nvPr/>
        </p:nvPicPr>
        <p:blipFill>
          <a:blip r:embed="rId3"/>
          <a:stretch/>
        </p:blipFill>
        <p:spPr>
          <a:xfrm>
            <a:off x="36360" y="4840200"/>
            <a:ext cx="2341800" cy="1255680"/>
          </a:xfrm>
          <a:prstGeom prst="rect">
            <a:avLst/>
          </a:prstGeom>
          <a:ln w="0">
            <a:noFill/>
          </a:ln>
        </p:spPr>
      </p:pic>
      <p:pic>
        <p:nvPicPr>
          <p:cNvPr id="491" name="Imagen 4" descr=""/>
          <p:cNvPicPr/>
          <p:nvPr/>
        </p:nvPicPr>
        <p:blipFill>
          <a:blip r:embed="rId4"/>
          <a:stretch/>
        </p:blipFill>
        <p:spPr>
          <a:xfrm>
            <a:off x="623880" y="3265560"/>
            <a:ext cx="1068480" cy="1066680"/>
          </a:xfrm>
          <a:prstGeom prst="rect">
            <a:avLst/>
          </a:prstGeom>
          <a:ln w="0">
            <a:noFill/>
          </a:ln>
        </p:spPr>
      </p:pic>
      <p:sp>
        <p:nvSpPr>
          <p:cNvPr id="492" name="Rectángulo 1"/>
          <p:cNvSpPr/>
          <p:nvPr/>
        </p:nvSpPr>
        <p:spPr>
          <a:xfrm>
            <a:off x="2771640" y="6021360"/>
            <a:ext cx="62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900" spc="-1" strike="noStrike">
                <a:solidFill>
                  <a:srgbClr val="000000"/>
                </a:solidFill>
                <a:latin typeface="Calibri"/>
              </a:rPr>
              <a:t>http://es.slideshare.net/faropaideia/psicologa-social-autoconcepto-e-identida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90288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76092"/>
                </a:solidFill>
                <a:latin typeface="Calibri"/>
              </a:rPr>
              <a:t>IDENTIDAD SO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7:10:58Z</dcterms:created>
  <dc:creator>Pamela Jaramillo</dc:creator>
  <dc:description/>
  <dc:language>en-US</dc:language>
  <cp:lastModifiedBy>Miriam Perez</cp:lastModifiedBy>
  <dcterms:modified xsi:type="dcterms:W3CDTF">2016-05-13T05:11:48Z</dcterms:modified>
  <cp:revision>374</cp:revision>
  <dc:subject/>
  <dc:title>Diapositiva 1</dc:title>
</cp:coreProperties>
</file>