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DB8C5C-B572-44B2-BA87-349EFF6D8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45AE35-2C86-4335-9819-A8EAA70A4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9ADF35-388F-4060-AFD5-DED5A92C2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A3FB01-F862-463E-A11E-034F923B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FF49C4-9AAF-4004-860F-0E3C66AE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C2F4BF-7A50-476A-BC77-8E7B4BEF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83FBC1-17AF-49A7-9B67-FE921C5A6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D1758D-475F-4DDB-8721-2845CE7E9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7DEEC0-A414-4EDB-BEF4-B0AA8AC39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0A7646-18B1-489E-BFE8-367C59DDF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A83EAF-6343-432B-B77F-D74DE0218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5EF176-A178-4DC3-B1B3-EF60251A7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FC9BAA-7937-48D4-A13E-869883D30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AF2C7F-39D6-4DA7-ABE3-39C67C694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40E6B4-CAF3-4CE3-9227-93B28AEBC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63EA24-37AF-4B3D-A7C4-E7DE54C0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35A0E5-CB9D-4B98-BAFB-94B67773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6A3D86-01C7-4F7A-89A9-6865E244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D8C737-089A-4E21-8D0B-4E9F0A23C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417AF2-F2C2-41B7-8DB6-BB375A157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BCFC84-6464-4954-BF43-F340312A9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0FBE80-E6F8-47FE-AC1B-4EE5FB5D8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D035C3-73E9-4B97-B53A-A87AF7F0C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66326B-052A-4136-9204-82998BB94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CFC4C7-223F-440D-8974-D727A75FA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EB9CC9-32E8-45A9-8C6F-A3881BE61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31366D-7DE3-4A55-8A00-EC5DEB265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668A28-E40B-48DA-9FA0-4BBE4B9D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F51B0F-A247-4552-AF49-89528B15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81BF02-3C95-49EC-8BA4-A6E97CE2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6DF6-2DA6-4B67-8F4F-DF7047AE8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132DA6-5444-4F0C-B577-3CFBCAAAD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C30234-82A8-4ED3-97E1-9001CE92F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E7BCCC-1846-46CB-89FE-850D1F311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3D09AA-E4AB-449A-9E53-5E8846C3C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A8FA62-E52F-4C3B-A1CB-6412531BA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71D6B2-A7B8-448E-A9D7-FD990943F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3B05B0-2A93-46E7-BB11-E171EFCD8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AFE650-172C-4DB8-8954-8CECA99A1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29E23E-CC92-4752-9B9A-6F3B14454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E9024D-F862-4AD9-8870-7EA5E7A2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ED7D-1874-4C8F-82B2-7CBB8123B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64C92F-38F3-4F10-8F16-E9D2FEE8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84183A-FFA4-4DEC-B2CE-436CBAA7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54D1A5-6313-4EC0-A1F8-CF8044267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D6F593-3DEB-4A04-A444-D787AF3A1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10960B-4945-4E84-8AD4-4A0A92390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A63C-01E6-42F6-B235-25DFFE17A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83CE-3780-471E-AB9E-0243251AF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009F-ECFA-435E-963F-10B71618F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3B01-0BB8-4B07-94C1-97FB33A7D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9524-8AA7-49E2-80DD-7B6DCCBF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E904-B96D-4115-88E6-D121C569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7C0E-8AB6-4DAC-B681-6E7ADAD7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3B42-66C3-40E9-A17A-E506B5AB9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99B0-18DD-4750-97D0-CEB0777F4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AC5B-936B-46A4-9FD9-92F4A82F8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F720D-7087-4958-A055-B578B1D83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1FD73-B8BA-450C-8A12-2A2192EBC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58B38-820F-40A2-95EA-3F170944E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D5C60-33DC-445C-86B4-067A28D46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0079B-1753-48AC-ADAC-3F611E13D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CFCDF-850C-406B-B34B-906564E3F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AA9F2-D089-42CF-A060-843A3158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CE837-93AC-496C-AB0B-35420434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5D913-CC30-4B2D-85FD-C726AE62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BE20F-5863-4B57-803D-95992CD44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36EEE-D46F-47F1-8C91-1ADCC0CA7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DBE01-CC1B-4C4E-B9F7-2D186F15C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7C877-369C-421A-BC3A-CE2E3276E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DAAFE-CEFB-482F-9BA3-E3A4823E3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FCB7E-91D7-43DA-B0C7-1CF754F58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CB6CB-037D-4CAE-ADF6-701D0C91D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6BD39-74BB-4860-BD08-DAACB7E06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3E246-3FF8-4133-901D-92636E6E0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5BE14-BA62-4DFC-9819-5F1DA2ED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0B785-C188-4DB3-BF9A-C18F44C2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30B65-8956-4109-9EC4-8B0D57A9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167CC-8EFA-44DF-AE5B-530C47156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04BE5-E55E-4707-80C1-AA014849B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B9D80-98E8-4BFF-97D9-4D2ED5501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64213-53C7-4EF1-A7B2-22D7CE9DF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90F9B-5207-4A36-820D-03AE18946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91CEE-D94D-4BF3-8712-B32143BB5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AEF1D-87F9-4349-8269-A335841EB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A457E-D632-4D6C-962A-761820E7B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E5273-8325-40E9-B69E-48DA16179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FD7AB-6E8B-40BC-B2BA-F7677EBE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36555-1DF5-4138-95C4-47545B86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1E0FC-FAB6-4B70-A034-12607209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D0FCC-948C-4BA2-BDBC-76AF114CC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DFB8F-5888-47BA-B84E-BBC35007D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47BAB-E25C-4314-9289-76C0085F7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3B221-3C00-4290-8764-1F79F2E7C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42B0F-A036-4227-8B0F-FDC94B5A7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0E68F-60BE-4E27-8CC7-B27BC358B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C6CC9-C79D-4003-8DF0-03DA7EB9C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4B2A7-B2F2-471F-BD44-50D2F5F3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0DA44-5ED5-458B-8D51-421F7DD17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38BC9-BC37-41CA-92A2-AD201DCF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3B351-DF23-467B-8B1B-9F8A778F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F0EDF-555C-4006-97B8-CEF3736E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A9851-14B4-4AE0-B409-34E28B9E1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8C516-755F-4C56-9E7D-47F56FBB7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1E005-B2DC-4DD4-8F33-29DD17A89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799032-D5BB-4B0A-974D-14FB5F45E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04016-785E-4DB6-9D8A-4E6A8DA68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19944-F021-4DE5-A1F9-E4724D13E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E40A9-9434-4E25-BC9A-83C212CB1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4E1D8-B7ED-42FD-9942-B99D1716D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B0578-7DA9-4393-A624-4B857A834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E8957-CBBA-4E3A-A407-42659107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0ED41-CD84-43F5-9C64-EA99FAA4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2C175-85D3-4179-B8EE-11B81BE3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BEAD2-3A8F-489F-BAC5-F720A9092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D4DB0F-CAED-433D-B8E4-A42BFED4E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D2DFC8-B81A-4BF6-B519-1A659F5D9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063BFF-8277-409A-932E-790B853ED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BBF9D0-2F9D-4AB0-B60E-214D0E6BA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5F938-96BA-420C-993A-22D29C865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60FF4-1FBF-4D8C-A12D-6A4B5EBE0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118489-02BD-40DF-925B-5B3436811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470D84-4AA6-4BA6-BD9A-867581827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7C1565-EBF9-4A4D-A8BF-21F38A78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314CDD-43B1-466B-83CA-8163EF31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28246-D7C8-4CB4-BF2A-7B26FE34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B6F39-3CBF-41F8-9686-4DD7B21D0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D8A2AD-FF49-49CD-9F96-33342A45B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A2FF9-338C-4A7C-BA83-D601545AC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B047ED-A4AF-46DE-95CA-03FD14EED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22EF61-FC1B-4629-9526-AE7666F20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11FBB-65D1-4123-A8FF-0B7307623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8A6E6-1454-433E-BE6C-B824A6519D4D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2D1A4-672D-4F9D-ACA5-9E7C992D4A30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E8D30-107D-469B-86A0-76E588E01457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F16BC-98B7-49FD-BD21-CAE75E375201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4AC01-2346-4603-9A88-DF558404714C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9A35F-6640-47FC-8EB7-F7421FC6A3AE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A2749-317B-4DF9-860D-704BFE3CCA40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80575-7F6C-4B21-9773-575472B37EA4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A470-133F-431C-B910-4B8F43AEAC86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035C7-37EB-4812-99A9-90FFC7C27945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51A5-4804-4BB8-A530-5FA25B00D966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Marcador de contenido 3" descr=""/>
          <p:cNvPicPr/>
          <p:nvPr/>
        </p:nvPicPr>
        <p:blipFill>
          <a:blip r:embed="rId1"/>
          <a:stretch/>
        </p:blipFill>
        <p:spPr>
          <a:xfrm>
            <a:off x="-108000" y="189000"/>
            <a:ext cx="925200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0T17:10:58Z</dcterms:created>
  <dc:creator>Pamela Jaramillo</dc:creator>
  <dc:description/>
  <dc:language>en-US</dc:language>
  <cp:lastModifiedBy>Miriam Perez</cp:lastModifiedBy>
  <dcterms:modified xsi:type="dcterms:W3CDTF">2016-05-13T05:10:38Z</dcterms:modified>
  <cp:revision>374</cp:revision>
  <dc:subject/>
  <dc:title>Diapositiva 1</dc:title>
</cp:coreProperties>
</file>